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43D2B-FA87-46BA-8DE4-5DE581D26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52D04-8763-4B22-8ED9-D23F28C7C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48A19-1853-435C-B332-2985B8400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902A5-6B6C-41A9-BE92-6964EC3C5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1F40E-F2F4-4E31-8EA2-D0FEB4889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A10CD-FBA6-4F21-BC37-4F454DA46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188D8-BBF8-4AF3-ADC8-F1008714A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59F20-A347-4640-8D99-CAB6D215D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FC843-3487-4210-88DD-08813A81D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0E650-1033-4444-B24C-3E4E3C7DF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14AA2-2543-444A-A962-B846E47B1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C50BF-1525-4377-B8DE-2753A4E71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7F4B0-100F-46AA-99A7-3762E5D012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ited States Constitutio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al 2; Topics 1-7</a:t>
            </a:r>
            <a:br>
              <a:rPr sz="44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pter 3,4,6,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712800" y="376200"/>
            <a:ext cx="7495920" cy="70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. Congressional Lead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House of Representa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Speaker of the House (Maj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Chooses what to talk abou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Sen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President Pro Tempo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Vice President’s Ro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Must take bills in or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. Congressional Committe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Standing Committe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Select/Joi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Seniori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. Powers of Cong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Expressed Pow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Implied Pow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Impe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Block Appoint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 Propose Amend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676880" y="304920"/>
            <a:ext cx="477396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 Limits on Congressional 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Writ of Habeas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Bills of Attain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Ex Post Facto Law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3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. Qualifications for HoRe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25 yrs o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7 yr U.S. Citiz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Live in state to repres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. Qualifications for Sen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30 yrs o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9 yr U.S. Citiz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Live in state to repres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. Benef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$165,200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Franking Privile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mary/Main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-204480" y="227160"/>
            <a:ext cx="9205560" cy="70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ic 5: How a Bill becomes a L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ublic ($ in House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iv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Joint Resol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Bill-L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d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Citizens, Interest Groups, White 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Given a Title &amp; Number (S.1, H.R.10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. Committee 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Standing Committee (exper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Pass, Change, Replace, Ignore, K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3. Deb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Argue over good/bad po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House; Priority, Senate; Or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Amendments must be relevant in 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Fillibuster, Clo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85800" y="357120"/>
            <a:ext cx="74120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Vo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Voice, Standing, Roll-Call, Electron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Identical versions must be pass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If either house rejects, bill d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 Presidential 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Veto (2/3 Majority to overr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Pocket Ve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II. Summary/Main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-317160" y="395280"/>
            <a:ext cx="886716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ic 6: Executive Bran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ecutive Branch (THEY ENFORCE THE LAW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00000"/>
              </a:lnSpc>
              <a:buClr>
                <a:srgbClr val="000000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esid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op D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alif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981080" indent="-60948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at least 35 years o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981080" indent="-60948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Native-born American Citiz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981080" indent="-60948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Resident of the U.S. for at least 14 y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981080" indent="-60948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More experience is necessary, Wh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3. In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First President of the U.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First Cathol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First African American Candid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First woman candidate for V.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First Jewish candidate for V.P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54680" y="366840"/>
            <a:ext cx="6878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Electing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Every 4 y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Electoral Colleg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Not Popular Vo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Electors (#House +#Senat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Population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270/53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No majority goes to 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22nd Amend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EC Movie Cl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 Salary &amp; Benef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$400,000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$ for expen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White House, 80 Serv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Camp David, Air Force 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533160" y="380880"/>
            <a:ext cx="685872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. Vice Presid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Electing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WITH the Presid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Same qualif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Major Pow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Presides over Sen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Votes in case of tie (ARTICLE 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. Presidential Succ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25th Amend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Vice Presid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Speaker of the 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President Pro Temp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Secretary of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Secretary of Defe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Attorney Gene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Secretary of the Interior.. Page 2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34960" y="262080"/>
            <a:ext cx="764532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. Presidential Pow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Veto Legislation (BILL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Call Congressional Special S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Commander in Chi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Foreign Rel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 Make Trea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 Appoint Judges, Ambassad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. Pardon or Reprie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 Presidential Ro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Chief Execu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Executive Or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Appoint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Chief Diplo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Foreign Rel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Commander in Chi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In charge of the milit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Declare war with Congressional approv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Head of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788400" y="184320"/>
            <a:ext cx="53532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. Presidential Cabi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Secretary of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Secretary of Defe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Secretary of Treasu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Attorney Gene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 Page 22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. Executive Office of the Presid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500 people to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10-12 personal advis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Chief of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9283680" y="3419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620640" y="96840"/>
            <a:ext cx="795132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ic 7: Judicial Bran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dicial Bran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00000"/>
              </a:lnSpc>
              <a:buClr>
                <a:srgbClr val="000000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? THEY INTERPRET THE LAWS (Article II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. Equal Just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. Settle civil disp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3. Decide innocence or gui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. Federal Courts Orga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. U.S. Supreme Cou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. Court of appe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3. District Cour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. State Court System Orga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. Supreme Cou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. Court of appe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3. Superior Cou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4. District Cour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412920" y="58680"/>
            <a:ext cx="8426160" cy="74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ic 1: Structure of the Constit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00000"/>
              </a:lnSpc>
              <a:buClr>
                <a:srgbClr val="000000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eam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981080" indent="-60948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rtic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981080" indent="-60948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I Legislative Bran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981080" indent="-60948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~Necessary &amp; Proper Clause (Ela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981080" indent="-60948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II Executive Bran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981080" indent="-60948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III Judicial Bran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981080" indent="-60948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IV-VII Other issues (IV-Supremacy Claus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mend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981080" indent="-60948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1-10 Bill of Righ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981080" indent="-60948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11-27 Other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981080" indent="-60948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2/3 approval to accep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4. Interpre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Strict v. Lo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Implied v. Express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807120" y="338040"/>
            <a:ext cx="66852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. Federal Court Jurisdi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Autho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Constit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Federal la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Disputes b/w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Citizens of different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Federal Gov’t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Foreign Gov’t and trea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Admiralty and Maritime La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U.S. Diploma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Ty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Exclusive Jurisdi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Concurrent Jurisdic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U.S. Supreme Court has BOTH (Constitution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Original Jurisdi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Appellate Jurisdi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1332000" y="619200"/>
            <a:ext cx="56563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Federal Court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reme Courts=Appellate Jurisdi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rts of Appeals=Appellate Jurisdi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ct Courts=Original Jurisdi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Magistr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Opinions &amp; Preced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Judges &amp; Court Offic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Federal Judges=Appoi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915120" y="0"/>
            <a:ext cx="627984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 Supreme Cou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Orga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9 Members (8 +1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Appointed &amp; approv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Chooses what cases they h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Top decision-mak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Pow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Judicial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Marbury v. Madi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SERVE FOR LI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Lim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Can only hear cases sent to i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Court Proced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Oct-June/Ju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Dock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Brief, Arguments, Confer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401840" y="58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851480" y="189000"/>
            <a:ext cx="561672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 Opin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jo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ur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sen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s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Stare Deci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Social Conditions *K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 Important C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Marbury v. Madi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Roe v. W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Plessy v. Fergu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Brown v. Board of Edu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Tinker v. Des Mo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Miranda v. Arizo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Gideon v. Wainwr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Swann v. Charlotte-Mecklenbe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State v. Man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Heart of Atlanta Hotel v. U.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712800" y="414360"/>
            <a:ext cx="64990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I. Princi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 Popular Sovereign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The Right to R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. Rule of L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Everyone must follow th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. Separation of Pow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Three Bran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. Checks &amp; Bala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Limited 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 Federalis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National, State, Lo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898920" y="469800"/>
            <a:ext cx="55328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II. Federal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 Types of 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Expressed/Enumer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Reser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Concur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Page 8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 Supremac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-88200" y="357120"/>
            <a:ext cx="1010304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al 2 Topic II: Bill of Rights (Chapter 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ll of Righ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 First Amend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Religion, Assembly, Press, Petition, Spee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Censo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John Peter Zen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Lim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Slander, Libel, Dan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. 2-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Right to Bear Ar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No Quartering of Tro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Search &amp; Seiz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 Due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Self Incrim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Double Jeopar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Eminent Do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695880" y="133200"/>
            <a:ext cx="7020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 Rights of the Accu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. Rights in civil cases; Jury Tri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 Cruel &amp; Unusual Punishment; Bai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. Rights reserved to the PEO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. Rights reserved to th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. Summary/Main Poi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768240" y="338040"/>
            <a:ext cx="516276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ic 3: Amendments 11-2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. 11. Limits on suits against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. Presidential Election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I. Civil War Amendmen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3. Abolished Slav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4. Citizenship &amp; Equal Prot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5. African-America right to vo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II. Progressive Amend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6. Income Ta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7. Election of Senators by peo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8. Prohib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. Women’s right to vo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938160" y="674640"/>
            <a:ext cx="59702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V. 20. Lame Duck Presid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1. Repeal 18th;Prohib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2. Presidents limited to two ter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3. Washington D.C. gets vo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4. Elimination of the poll ta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5. Presidential Succ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6. 18 y.o. voting righ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7. Congressional salary pay limi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. Civil Rights Strug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 13-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. Discrimination/Segreg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. Affirmative Action/Racial Prof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. Summary/Main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11360" y="376200"/>
            <a:ext cx="7441920" cy="70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ic 4: Three Branches of Government (Chap 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gislative Branch (THEY MAKE THE LAW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 Orga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Bicame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House of Representa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Based on Population; Cens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435 Mem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Gerrymand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Sen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Based on Equal Re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00 Mem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Ses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Two year periods (07-09; 110th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Majority v. Minority Par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Party Wh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1T00:31:44Z</dcterms:created>
  <dc:creator>Chatham Central</dc:creator>
  <dc:description/>
  <dc:language>en-US</dc:language>
  <cp:lastModifiedBy>Chatham County</cp:lastModifiedBy>
  <cp:lastPrinted>2009-09-28T12:12:27Z</cp:lastPrinted>
  <dcterms:modified xsi:type="dcterms:W3CDTF">2009-11-16T16:00:06Z</dcterms:modified>
  <cp:revision>7</cp:revision>
  <dc:subject/>
  <dc:title>United States Constitution Goal 2; Topics 1-7 Chapter 3,4,6,7</dc:title>
</cp:coreProperties>
</file>